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0B6-84D0-47E3-8AB3-0871BC19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1D5-BDC6-4A8A-9442-F1B39F37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61F-359B-42FC-8A3C-98FE07F3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BCF9-F80A-40BF-B358-9F4DA78F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63E-EAF5-48C1-BED8-6104CA69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777-7D2B-4E09-8448-96122A20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9E9-984B-4E56-B1BE-D3C5A98A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B66-9FE8-4778-9BD5-2864E184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458-0598-4E18-9923-A869648B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F08-3EB5-4B11-AF1B-DA2CF713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5A7-F38C-4CAE-BD29-CEF284F1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0B3-C2C3-4781-9988-DA513AE1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10AB-737C-4F2F-BEEB-D5EE8AA70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mas homework questions – answer at least one of thes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) Discuss the impact of Web 2.0 on the music indu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) What effect has new technology had on the music indust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) Discuss the ways in which media products are produced and distributed to international, national and local audiences within the music indu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) How are media products marketed and distributed within the music indus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) How has the audience relationship with the music industry changed over recent yea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9:54:11Z</dcterms:created>
  <dc:creator>administrator</dc:creator>
  <dc:description/>
  <dc:language>en-US</dc:language>
  <cp:lastModifiedBy>maninder singh</cp:lastModifiedBy>
  <dcterms:modified xsi:type="dcterms:W3CDTF">2010-12-13T17:21:09Z</dcterms:modified>
  <cp:revision>2</cp:revision>
  <dc:subject/>
  <dc:title>Half term homework – answer one of these questions</dc:title>
</cp:coreProperties>
</file>